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C35-D90A-4B48-A17B-AF6B8269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099-048E-4828-A898-47690715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178-733B-42FC-B97C-D17F4F9E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437-BB96-4F8F-A1A2-A62DDD3F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35A-F828-4E00-B656-0C00D050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D90-9249-45C4-877C-B1F14BD7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35F-2D94-4596-8A83-98429EAE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C83-9399-452D-91D9-6A8846F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B04-3174-4A01-BFD4-D6578921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47C-2750-431F-B377-573D9A52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FC5-0727-4346-964A-1B51038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B33-09C4-44A1-BB56-7D85881E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6BEA-2B27-463A-8E8D-F7D70EC33408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lgian Coordinating Body:</a:t>
            </a:r>
            <a:br>
              <a:rPr sz="40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aison for the financial flow betwe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EC and the Belgian Paying Agenci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BLOCKX, G. VYVEY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al Unit Agriculture, BE Coordinating Body, FPS Economy</a:t>
            </a: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enary session 3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C17-667B-4506-9128-6D932D3398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EAGF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ittee of the Agricultural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h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tion on a draft Commission Decis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ing the monthly payments by the EAG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asks of the C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individual payments to the P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the payments from the Treasury-accoun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ounts of the PA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2160"/>
                <a:tab algn="l" pos="8082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som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E49-D2E1-40F3-8522-2173CF94D3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1: Calculation of the individual payments to the PA’s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er between P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06436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5F1-8DDC-45E9-895D-215EDF9FF9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2: Calculation of the individual payments to the PA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ers between P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1773360"/>
            <a:ext cx="8229600" cy="41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8B0-C5B7-4EE0-BF7D-F20957B21D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GF – annual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working document of the Com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oc. VI/6543/98 rev year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s of the 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transmission: paper form and CD-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e access Statel/ eDamisStadium: transmission of files and follow up with the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: overview table of the annual accounts and the final T104 declaration of the 3 PA’s with the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 march – letter: follow up of the financial consequences of the clearance of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 decision: follow up with the PA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775-CB37-4B08-9467-2A44D6F0566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FRD – quarterl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data: declaration of expenditures by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PA’s in 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 of the C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eck up and transmission of the files via 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llow up of remarks of th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in the Committee of the Agricultural Fund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of Rur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from the Commission directly to the Reg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A2B-82B5-463E-8EA6-CE44E963C7C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FRD – semester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data: forecasts by the 2 Regional PA’s in 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 of the C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eck up and transmission of the forecasts via 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llow up of remarks of th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in the Committee of the Agricultural Fund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of Rur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565-F4B5-4A44-9881-5D5E1717B4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FRD – annual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EAGF – annual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working document of the 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oc. VI/6543/98 rev year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s of the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transmission: paper form and CD- 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e access Statel/ eDamisStadium: transmission of files and follow up with the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: overview table of the annual accounts and the total quarterly declarations of the 2 PA’s with the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 march – letter: follow up of the financial consequences of the clearance of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4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ssion decision: follow up with the PA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6BF-BF57-466E-89A9-30A2A4D3946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e: EAGF- financial fl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1700280"/>
            <a:ext cx="822960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E4A-8F03-497E-955E-48A8E9B36D2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e: EAFRD - financi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62120"/>
            <a:ext cx="8229600" cy="440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E8A-D5E4-492C-90CF-684DB8EB1B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Tasks of the CB: finance rela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the pre- financing of the federal PA (BIRB) with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federal bank credit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 faudit: together with BIRB managing the data for publ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9F9-6C59-4C08-8FA3-204351BBAB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Content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ucture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ng Body (CB): the Commission’s sole interlocutor for the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f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G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F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e of Financial flows: flow of information  and money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asks of the CB: finance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971-6B6B-4CA3-831A-7BA68B1992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he role of the Coordinating Body in the treatment of the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flows from the European Commission to the Paying A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008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3B0-536B-4BF3-88E0-D659660F9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structure in Belg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Paying Agencie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federal P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AG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id for economic ope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IRB (Belgian Intervention and Refu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gional P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AGF – aid for farmers and EAF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lemish PA: Agentschap voor Landbouw en Visserij (A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alloon PA: Organisme Payeur Wall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GARNE (Agriculture, Ressources naturelles 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Environn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obligation of a Coordinating Body 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(art 6 (3) of Reg. 1290/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5300640"/>
            <a:ext cx="649440" cy="343080"/>
          </a:xfrm>
          <a:prstGeom prst="rightArrow">
            <a:avLst>
              <a:gd name="adj1" fmla="val 50000"/>
              <a:gd name="adj2" fmla="val 473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2A7-7E44-4EFD-BEE3-C039D58915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BE - Coordinating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S Economy, S.M.E’s, Self-employed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 Economic Potenti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Unit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City Atrium C- 6th fl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Rue de Progrès,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B-1210 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. GEERTS, Director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EUAlbertina-Regular-Identity-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Albertina-Regular-Identity-H"/>
              </a:rPr>
              <a:t>the Commission’s</a:t>
            </a:r>
            <a:r>
              <a:rPr b="1" lang="en-US" sz="2000" spc="-1" strike="noStrike">
                <a:solidFill>
                  <a:srgbClr val="000000"/>
                </a:solidFill>
                <a:latin typeface="EUAlbertina-Regular-Identity-H"/>
              </a:rPr>
              <a:t> sole</a:t>
            </a:r>
            <a:r>
              <a:rPr b="0" lang="en-US" sz="2000" spc="-1" strike="noStrike">
                <a:solidFill>
                  <a:srgbClr val="000000"/>
                </a:solidFill>
                <a:latin typeface="EUAlbertina-Regular-Identity-H"/>
              </a:rPr>
              <a:t> interlocutor for the Member State for all questions relating to the EAGF and the EAFRD, incl. financi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EUAlbertina-Regular-Identity-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Albertina-Regular-Identity-H"/>
              </a:rPr>
              <a:t>formal accreditation: 6/10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578-807E-491D-B3EC-17F8E0520B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larations on a monthly basi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E-AGR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nu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AF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ly/ semester declaratio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via E-S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C49-FD78-4550-9B21-EFB9616C6F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EAGF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07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GF – declaration by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working d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each month at the l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llec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asks of the C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ummarize the data of the 3 P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xplain the substantial differences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s and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25320"/>
                <a:tab algn="l" pos="98748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D40-5D9A-47A6-A36D-D483B668D6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EAGF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GF - declaration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n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llection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asks of the C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summarize the data of the PA’s in one table fo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follow up of eventual remarks of th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4724280"/>
            <a:ext cx="7920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basis for the monthly Payment decision by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714-8D0C-4EC3-BDD2-61AE547FD0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EAGF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07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GF – declaration by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th d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each month at the l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tent: table 104 / table 101 and 1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llection of data: table 104 – txt format of the 3 P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asks of the CB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upload table 104 of the 3 PA’s by WU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complete table 1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explain in table 101 the differences between the 10th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the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optional: verification of the pre-financing (old table 1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638172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th Conference of Directors of EU Paying Agencies, Namur, 28 Octo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5CB-D7B6-49BC-893D-5017E260D6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8:55:20Z</dcterms:created>
  <dc:creator>Joeri.Vlekken</dc:creator>
  <dc:description/>
  <dc:language>en-US</dc:language>
  <cp:lastModifiedBy>bryon</cp:lastModifiedBy>
  <dcterms:modified xsi:type="dcterms:W3CDTF">2010-10-20T08:34:44Z</dcterms:modified>
  <cp:revision>41</cp:revision>
  <dc:subject/>
  <dc:title>Dia 1</dc:title>
</cp:coreProperties>
</file>